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3EF6-68E7-4414-8A67-440B5D7021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don’t really exi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2A11-272E-4910-987C-C68048CA84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blue rose was created using genetic modification by Suntory Flowers in 2008 (see http://www.telegraph.co.uk/news/worldnews/asia/japan/3329213/Worlds-first-blue-roses-after-20-years-of-research.html), while the ‘black’ tulip is actually a dark purple colour and has been around since before the advent of genetic enginee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864D-DF21-4C9D-8ECE-F849E7703E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rple tomatoes have been created by genetic modification to contain more antioxidants than normal tomatoes (see http://news.bbc.co.uk/1/hi/7688310.stm), whereas these purple carrots are naturally occurring and may have been one of the earliest forms of carrot, originating in modern-day Afghanistan over 5000 years ago (see http://www.carrotmuseum.co.uk/history.html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398D-78CB-426B-81CC-8AFEF98AFF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famous mouse with the human ear was neither selectively bred nor genetically engineered to grow that ear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"ear" was actually an ear-shaped cartilage structure grown by seeding cow cartilage cells (there was never any human tissue used) into a biodegradable ear-shaped mould.  It was created to demonstrate a method of fabricating cartilage structures for transplantation into human patients (See http://www.famouspictures.org/mag/index.php?title=Ear_Mouse).  The glow-in-the-dark mouse, on the other hand, has been genetically engineered to contain a gene from a naturally glowing jellyfish (though I suspect this picture has been enhance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4259-431B-4092-A6CA-899E285E1E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re glow-in-the-dark creatures: a glowing version of the zebrafish, known as the Night Pearl, is now on sale as a pet (see http://www.guardian.co.uk/uk/2003/jun/15/science.highereducation1).  The glowing jellyfish do that naturally, and it is their genetic material which has been inserted into the zebrafi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DB17-D16F-42EA-9C67-2E07D25726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lowing tobacco plant and piglets – both genetically enginee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48D2-C4A7-458F-8CA9-DB8E6D90B1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8928-05C1-4407-A634-45D611F5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A82E-2E83-445F-B8F8-6786E13B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30A7-6F98-46FD-9A02-04CB6632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9DEC-94D9-4D82-9B86-02F0E2F1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BCB2-27E2-426B-9696-EA09B981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4CA5-403D-45FF-8E47-7CD6F87C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FC30-5C96-49FC-B4E5-24D8E959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535C-ED00-427F-BED0-95091D73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BBDF-6752-4362-9EDF-C7BFC1BE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C321-B72B-4FA7-8696-7E68D976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8E38-6FC1-43C7-8CCC-F97C4116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15AF-29DF-4407-8699-B26244CE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C02A-54A7-4872-A974-0E0D4EEB0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Content Placeholder 6" descr=""/>
          <p:cNvPicPr/>
          <p:nvPr/>
        </p:nvPicPr>
        <p:blipFill>
          <a:blip r:embed="rId1"/>
          <a:stretch/>
        </p:blipFill>
        <p:spPr>
          <a:xfrm>
            <a:off x="1179360" y="611280"/>
            <a:ext cx="6710400" cy="56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8" descr="Turtlehopper turtle grasshopper.jpg"/>
          <p:cNvPicPr/>
          <p:nvPr/>
        </p:nvPicPr>
        <p:blipFill>
          <a:blip r:embed="rId1"/>
          <a:srcRect l="8570" t="0" r="17097" b="0"/>
          <a:stretch/>
        </p:blipFill>
        <p:spPr>
          <a:xfrm>
            <a:off x="752400" y="1852560"/>
            <a:ext cx="3730680" cy="3714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Mog monkey dog.jpg"/>
          <p:cNvPicPr/>
          <p:nvPr/>
        </p:nvPicPr>
        <p:blipFill>
          <a:blip r:embed="rId2"/>
          <a:stretch/>
        </p:blipFill>
        <p:spPr>
          <a:xfrm>
            <a:off x="4921200" y="1508040"/>
            <a:ext cx="3495600" cy="4762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13"/>
          <p:cNvSpPr/>
          <p:nvPr/>
        </p:nvSpPr>
        <p:spPr>
          <a:xfrm>
            <a:off x="3246480" y="3932280"/>
            <a:ext cx="1203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7223040" y="4587840"/>
            <a:ext cx="120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4" descr=""/>
          <p:cNvPicPr/>
          <p:nvPr/>
        </p:nvPicPr>
        <p:blipFill>
          <a:blip r:embed="rId1"/>
          <a:stretch/>
        </p:blipFill>
        <p:spPr>
          <a:xfrm>
            <a:off x="976320" y="1719360"/>
            <a:ext cx="3000240" cy="428616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5" descr=""/>
          <p:cNvPicPr/>
          <p:nvPr/>
        </p:nvPicPr>
        <p:blipFill>
          <a:blip r:embed="rId2"/>
          <a:stretch/>
        </p:blipFill>
        <p:spPr>
          <a:xfrm>
            <a:off x="5129280" y="1814400"/>
            <a:ext cx="3076560" cy="4095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2666880" y="4465800"/>
            <a:ext cx="147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b050"/>
                </a:solidFill>
                <a:latin typeface="Wingdings"/>
                <a:ea typeface="Wingdings"/>
              </a:rPr>
              <a:t>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7056360" y="4282920"/>
            <a:ext cx="1203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4" descr=""/>
          <p:cNvPicPr/>
          <p:nvPr/>
        </p:nvPicPr>
        <p:blipFill>
          <a:blip r:embed="rId1"/>
          <a:stretch/>
        </p:blipFill>
        <p:spPr>
          <a:xfrm>
            <a:off x="571680" y="2168640"/>
            <a:ext cx="3985920" cy="295740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5" descr=""/>
          <p:cNvPicPr/>
          <p:nvPr/>
        </p:nvPicPr>
        <p:blipFill>
          <a:blip r:embed="rId2"/>
          <a:stretch/>
        </p:blipFill>
        <p:spPr>
          <a:xfrm>
            <a:off x="4645080" y="1962000"/>
            <a:ext cx="3821040" cy="3996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3094200" y="3535200"/>
            <a:ext cx="147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b050"/>
                </a:solidFill>
                <a:latin typeface="Wingdings"/>
                <a:ea typeface="Wingdings"/>
              </a:rPr>
              <a:t>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7056360" y="4282920"/>
            <a:ext cx="1203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4" descr=""/>
          <p:cNvPicPr/>
          <p:nvPr/>
        </p:nvPicPr>
        <p:blipFill>
          <a:blip r:embed="rId1"/>
          <a:stretch/>
        </p:blipFill>
        <p:spPr>
          <a:xfrm>
            <a:off x="457200" y="2521080"/>
            <a:ext cx="4038480" cy="268416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5" descr=""/>
          <p:cNvPicPr/>
          <p:nvPr/>
        </p:nvPicPr>
        <p:blipFill>
          <a:blip r:embed="rId2"/>
          <a:stretch/>
        </p:blipFill>
        <p:spPr>
          <a:xfrm>
            <a:off x="4764240" y="2109960"/>
            <a:ext cx="3641400" cy="347976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7010280" y="2073240"/>
            <a:ext cx="147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b050"/>
                </a:solidFill>
                <a:latin typeface="Wingdings"/>
                <a:ea typeface="Wingdings"/>
              </a:rPr>
              <a:t>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3352680" y="3581280"/>
            <a:ext cx="1203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4" descr=""/>
          <p:cNvPicPr/>
          <p:nvPr/>
        </p:nvPicPr>
        <p:blipFill>
          <a:blip r:embed="rId1"/>
          <a:stretch/>
        </p:blipFill>
        <p:spPr>
          <a:xfrm>
            <a:off x="833400" y="1957320"/>
            <a:ext cx="3286080" cy="381024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5" descr=""/>
          <p:cNvPicPr/>
          <p:nvPr/>
        </p:nvPicPr>
        <p:blipFill>
          <a:blip r:embed="rId2"/>
          <a:stretch/>
        </p:blipFill>
        <p:spPr>
          <a:xfrm>
            <a:off x="4365720" y="2138400"/>
            <a:ext cx="4217760" cy="346536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7421400" y="3886200"/>
            <a:ext cx="120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2697120" y="1859040"/>
            <a:ext cx="147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b050"/>
                </a:solidFill>
                <a:latin typeface="Wingdings"/>
                <a:ea typeface="Wingdings"/>
              </a:rPr>
              <a:t>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4" descr=""/>
          <p:cNvPicPr/>
          <p:nvPr/>
        </p:nvPicPr>
        <p:blipFill>
          <a:blip r:embed="rId1"/>
          <a:stretch/>
        </p:blipFill>
        <p:spPr>
          <a:xfrm>
            <a:off x="884160" y="1600200"/>
            <a:ext cx="318456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5" descr=""/>
          <p:cNvPicPr/>
          <p:nvPr/>
        </p:nvPicPr>
        <p:blipFill>
          <a:blip r:embed="rId2"/>
          <a:stretch/>
        </p:blipFill>
        <p:spPr>
          <a:xfrm>
            <a:off x="4359240" y="1752480"/>
            <a:ext cx="4586400" cy="315432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7010280" y="2073240"/>
            <a:ext cx="147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b050"/>
                </a:solidFill>
                <a:latin typeface="Wingdings"/>
                <a:ea typeface="Wingdings"/>
              </a:rPr>
              <a:t>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2697120" y="2685960"/>
            <a:ext cx="147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b050"/>
                </a:solidFill>
                <a:latin typeface="Wingdings"/>
                <a:ea typeface="Wingdings"/>
              </a:rPr>
              <a:t>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9:49:36Z</dcterms:created>
  <dc:creator>Amanda George</dc:creator>
  <dc:description/>
  <dc:language>en-US</dc:language>
  <cp:lastModifiedBy>Pepe</cp:lastModifiedBy>
  <dcterms:modified xsi:type="dcterms:W3CDTF">2011-02-28T19:19:52Z</dcterms:modified>
  <cp:revision>24</cp:revision>
  <dc:subject/>
  <dc:title>Slide 1</dc:title>
</cp:coreProperties>
</file>